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47E-DA9C-4222-B2C9-335A1B79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F34-1DCB-412C-A644-7362C71B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0F2F-6EAA-4486-A77F-B9604D63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A52-2D95-4D83-8C86-EDF4715B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CEB-8CE8-45C1-96E0-E3F04B78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A12-3F99-4567-B431-F85892D7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241-8FB2-4EF7-B6FE-B45D647E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391-1D0C-439B-9EFF-7A8EDBAA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192B-9938-46CE-82DF-289FCE5B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46E-9F59-4586-8939-D1BD7F3F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A5A-FF23-465A-A4D4-B37FC238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73E-7A8F-4219-9FA5-DE3B3F18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78A4-3136-40E8-81A7-C1E953AA4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05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05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05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05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05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05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05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05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05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05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05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05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05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05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11:20:03Z</dcterms:created>
  <dc:creator>iñigo</dc:creator>
  <dc:description/>
  <dc:language>en-US</dc:language>
  <cp:lastModifiedBy>iñigo</cp:lastModifiedBy>
  <dcterms:modified xsi:type="dcterms:W3CDTF">2001-04-23T11:20:09Z</dcterms:modified>
  <cp:revision>1</cp:revision>
  <dc:subject/>
  <dc:title>Presentación de PowerPoint</dc:title>
</cp:coreProperties>
</file>